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456-2A87-4B87-AED9-FEE492F7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00A-6A55-4114-884C-A2E7424E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506-EBFC-47D2-B1B4-D71CAC29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ECE-6C48-4E6C-A4E9-01FA4AA3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D5C-A8F4-4CA7-96D4-CAB3808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2DF-FB37-4EC5-BD3D-F6576C6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DB29-798B-49B4-A565-8CC6392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2D33-61CA-4742-AABC-006EF517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9AB-1EB6-4B1E-B353-27C31174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397A-E600-4E8E-9FA6-891ABE44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AF04-0C4C-4067-A168-72EA5E4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289-965D-4F71-A404-0522B4F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2BE-A6AB-40B1-B427-B0C3952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A52A-DFC9-4E2E-AFF9-362DFD42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2B0-B062-4211-973C-0B0C3AC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6D19-D027-4431-93F5-35815456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7BA-B831-453C-8988-7895DD3F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8B0-BE31-4517-A724-49420ED0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3C4-6039-4EB7-8B87-1D7E7E4E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7DA-3EF1-4370-A5BA-465861E9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C3B-B047-46D8-8905-11E4DBE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640-D99E-4647-A90A-18359DC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C5B-C749-49C9-9471-457F37F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885-0534-4812-B7A9-51F2FE0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D01A-926E-4BCB-8E2F-39FFA6415E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E28A-A001-45A2-9F34-C1A2366DE0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larm.wav" TargetMode="External"/><Relationship Id="rId2" Type="http://schemas.microsoft.com/office/2007/relationships/media" Target="file:///tmp/home/.config/libreoffice/4/user/gallery/alarm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eyou.wav" TargetMode="External"/><Relationship Id="rId2" Type="http://schemas.microsoft.com/office/2007/relationships/media" Target="file:///tmp/home/.config/libreoffice/4/user/gallery/heyou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thatsall.wav" TargetMode="External"/><Relationship Id="rId3" Type="http://schemas.microsoft.com/office/2007/relationships/media" Target="file:///tmp/home/.config/libreoffice/4/user/gallery/thatsall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vlsclvr.wav" TargetMode="External"/><Relationship Id="rId2" Type="http://schemas.microsoft.com/office/2007/relationships/media" Target="file:///tmp/home/.config/libreoffice/4/user/gallery/dvlsclvr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sane.wav" TargetMode="External"/><Relationship Id="rId2" Type="http://schemas.microsoft.com/office/2007/relationships/media" Target="file:///tmp/home/.config/libreoffice/4/user/gallery/insane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nglish.wav" TargetMode="External"/><Relationship Id="rId2" Type="http://schemas.microsoft.com/office/2007/relationships/media" Target="file:///tmp/home/.config/libreoffice/4/user/gallery/english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anish Ver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81480" y="251424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lcome to Spanish 1  I hope you enjoy your time in cla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ntroductory presentation will review two key concepts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njug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greem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2360520"/>
            <a:ext cx="3809880" cy="2973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954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jug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we make changes to a verb, we call i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njugating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glish verbs have different forms: go, goes, went, gone, go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we have to decide between “go” and “goes,” we are conjugating the verb “go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219320" y="2220840"/>
            <a:ext cx="3809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5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course, it’s important to get the right form!  You can’t say “She go” any more than you can say “I goes.”  When you put the correct forms together, it’s calle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gree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57360" y="2281320"/>
            <a:ext cx="3133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31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t’s all, folks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ow you are ready to work on the first Spanish verb S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3280" y="1600200"/>
            <a:ext cx="290196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895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8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dentifying Ver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’s begin with a few English verb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360520"/>
            <a:ext cx="3809880" cy="297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4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day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ver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scribes the state or a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ry complete sentence needs a verb.  Imagine trying to make sense out of “Every day I up at 6:00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ry complete sentence also needs a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art of the sentences.  Imagine trying to make sense out of “Every day wake up at 6:00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9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84440" y="2289240"/>
            <a:ext cx="3116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45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identify the verb by making some changes to the sentence.  Change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see what happens.  In this case, change “I” to “she” and see what happe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84440" y="2359080"/>
            <a:ext cx="28112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she wake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or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hanged to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cause we are talking about a different person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760400" y="2538360"/>
            <a:ext cx="25830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rick doesn’t always tell us which word is the verb, because English verbs don’t change very oft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llustrate, change the subject of the original sentence to “we,” “you,” and “they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55840" y="2398680"/>
            <a:ext cx="3268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 wake up / You wake up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verb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oesn’t chang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 there is another way to check for the verb: change the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’s do that by changing “Every morning” to “yesterday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31800" y="2289240"/>
            <a:ext cx="31165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5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esterday I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wok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ord that changed wa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o that is the ver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also change the time to “tomorrow”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ll change aga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684440" y="2170080"/>
            <a:ext cx="3268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5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morrow I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will wak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 at 7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view, there are two tricks you can use to tell which is the verb: change the subject and change the time.  There is more to verbs than what you’ve seen here, but this will get your started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01760" y="2133720"/>
            <a:ext cx="3879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3:42:25Z</dcterms:created>
  <dc:creator>test</dc:creator>
  <dc:description/>
  <dc:language>en-US</dc:language>
  <cp:lastModifiedBy>Daly Dominguez</cp:lastModifiedBy>
  <dcterms:modified xsi:type="dcterms:W3CDTF">2009-09-19T16:04:05Z</dcterms:modified>
  <cp:revision>14</cp:revision>
  <dc:subject/>
  <dc:title>Spanish Verbs</dc:title>
</cp:coreProperties>
</file>